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A44-1829-4C42-AC77-70183FD5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uphin"/>
              </a:rPr>
              <a:t>The Klingon PK clan lives 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852-119F-4A6A-B85C-A026A93D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C0A-7646-45BC-9DF3-1C7197AC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BEA-3E60-4218-9EBA-E0B6B83C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FE2-3A89-4350-979C-D2DFA2C2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EF7-472A-4851-8F1A-335B86C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B99-4668-499D-9C5C-A1444E2F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F36-683C-498B-941E-F2B82CF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0D9-16EE-4841-B972-3BE5153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7DE-F069-4642-A4F5-F735332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2B0-3424-462F-8B95-A4D78D3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AC4-6BB2-4186-9216-118213B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8B9-E2A1-403E-B35D-ED35D2D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6ED1-D996-4553-9A0E-F2E469999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1080" y="1600200"/>
            <a:ext cx="51818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P CyrillicA"/>
                <a:ea typeface="WP CyrillicA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Dauphin"/>
              </a:rPr>
              <a:t>lingons house of rune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uphin"/>
              </a:rPr>
              <a:t>Sto’vo’kor warrior hon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0"/>
          <a:ext cx="257184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7184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 txBox="1"/>
          <p:nvPr/>
        </p:nvSpPr>
        <p:spPr>
          <a:xfrm rot="154800">
            <a:off x="3962160" y="3885840"/>
            <a:ext cx="1600200" cy="220356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3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WP CyrillicA"/>
              </a:rPr>
              <a:t>r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WP CyrillicA"/>
              <a:ea typeface="WP Cyrillic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7924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irst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doeht-Empe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21:56:47Z</dcterms:created>
  <dc:creator>teo</dc:creator>
  <dc:description/>
  <dc:language>en-US</dc:language>
  <cp:lastModifiedBy>teo</cp:lastModifiedBy>
  <dcterms:modified xsi:type="dcterms:W3CDTF">2004-02-09T02:19:17Z</dcterms:modified>
  <cp:revision>5</cp:revision>
  <dc:subject/>
  <dc:title>PowerPoint Presentation</dc:title>
</cp:coreProperties>
</file>